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174A-7D00-4937-9939-91BE35744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7EBB-7EDD-49E0-9935-414FAC686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4938-AB07-4DE8-8D99-6B72A628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4821-20ED-40AC-9455-5F8C5E196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D8BE-0D6B-409F-9418-C4BA36BC1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DE3D-9324-45B4-A6BB-18B71EC43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6C2F-AD61-4E35-873D-B30AF9B5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65D8-E185-4CCB-9B7A-F03B0A0F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41B1-C4CB-4E44-9D8D-94588CEA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54A-712D-40D5-AB69-C19F9242C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2932-27B6-4C21-A2BD-B4E1E6CF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02A0-C7C3-4D04-874D-4A933F711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4277-ED0A-49D0-98FF-EC7CDA77F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picture of an aba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3139-1CD9-4821-B3A5-582B5C924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88C8-95F3-4E2D-9E34-86DC69DD3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0675-04F6-4E0F-91AC-2F1041C16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754C-82B8-4C29-B29F-5572320DA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E743-1AE8-4789-A1C4-7C1743E1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C4D6-224B-419F-A112-CE9F208C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279D-1E3A-48BC-BF67-F418D689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FAA0-CECF-462B-AE20-03754E495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183E-44FE-468C-BEB6-9D02B1B0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8D12-8815-4745-B188-80CB89D5A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4B63-423F-4809-9769-1F7AA422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8CD8-EA5C-46D4-9C21-712606CD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B8D3-2D68-4E61-AD11-A6B4AB2C1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A5E7-F1F7-4B2F-830C-42F94F8C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5D67-875E-4FCC-9CFE-40C77070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153F-21DB-4553-B220-0B5CBC670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6020-7254-4ACD-AB20-7849C2EFA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E3CF-6180-4D72-A3A7-DF4BFD3B2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7C4C-2CA4-440C-B35D-AA85B1685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FCB2-7A44-42D2-BEAF-7E11610B8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C4E5-1124-4C6E-A9AE-7ACC1CE75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551C-36B5-4B41-9BC3-38658233D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B362-CBE4-4342-A5CB-BA4BF5C10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20DC-3FA5-4735-BCB2-F3066F40D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5061-B1FC-4F72-89CC-BA12E3A42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FCE0-7C5D-4374-B9E1-9B9B0E8C9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BEB5-9F23-4022-B4F4-D74B5AE86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62D0-0A4B-4C56-B32A-677798293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7B68-E2DF-4751-8F9D-65381F0ED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A88F-5CC0-4A3A-A39C-5F64A5564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00440"/>
            <a:ext cx="457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0DFF-94B9-4442-861A-3CEE6CD65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fclass.vaniercollege.qc.ca/web/mathematics/real/Calculators/BaseConv_calc_1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4038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960" y="2743200"/>
            <a:ext cx="419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nary Values and Numb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5530-F178-43CB-B905-0E65FB39EDF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609480" y="1905120"/>
            <a:ext cx="678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mal is base 10 and has 10 digit symbo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0,1,2,3,4,5,6,7,8,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is base 2 and has 2 digit symbo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0,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609480" y="434340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 number to exist in a given base, it can only  contain the digits in that base, which range from 0 up to (but not including) the ba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bases can these numbers be in?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122, 198, 178, G1A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1A3D-852F-4571-89F0-427651DB37B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0948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are digits in bases higher than 10 represent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85800" y="3276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istinct symbols for 10 and abo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16 has 16 digi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0,1,2,3,4,5,6,7,8,9,A,B,C,D,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s Higher than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59B0-BFD7-430E-A792-1BEADE05315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0948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decimal equivalent of the octal number 642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914400" y="3352680"/>
            <a:ext cx="64008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8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6 x 64   = 38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4 x 8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4 x  8   = 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2 x 8º  =   2 x 1   =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18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Octal to 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A565-8B8A-487F-B61D-CB4656BDB1C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09480" y="2057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decimal equivalent of the hexadecimal number DEF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14400" y="3429000"/>
            <a:ext cx="6934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x 16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3 x 256 = 332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E x 16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4 x  16  = 2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F x 16º  =  15 x 1     = 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3567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3520" y="5410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 the digit symbols in base 16 are 0,1,2,3,4,5,6,7,8,9,A,B,C,D,E,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Hexadecimal to 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2ABF-F78B-4EB1-AF3F-9BB05F55141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948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the decimal equivalent of the binary number 1101110?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762120" y="2895480"/>
            <a:ext cx="716256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64  = 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32  = 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0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0 x 16 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8   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4    =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1 x 2    = 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0 x 2º  =  0 x 1   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10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Binary to 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7AFD-2E69-48CE-84FA-78DE602B0E4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09480" y="1523880"/>
            <a:ext cx="77724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there are only 2 digit symbols in binary, 0 and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+ 1 is 0 with a car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6019920" y="3581280"/>
            <a:ext cx="2438280" cy="1143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y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295280" y="4114800"/>
            <a:ext cx="4419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0 1 1 1 1 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0 1 0 1 1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+1 0 0 1 0 1 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1 0 1 0 0 0 1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4571640" y="4267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ithmetic in Bin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5C9-5463-43CE-8270-D0F2F64ABDD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09480" y="1905120"/>
            <a:ext cx="7772400" cy="39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member borrowing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Apply that concept he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0 1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 1 1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  1 1 1 0 1 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0 1 1 1 0 0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tracting Binary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240C-F33E-4156-AD73-41796AF4D88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ing in Power-of-2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2004840" y="1295280"/>
            <a:ext cx="51343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3597-E8AD-4C5C-99C1-E25551F20A5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9"/>
          <p:cNvSpPr/>
          <p:nvPr/>
        </p:nvSpPr>
        <p:spPr>
          <a:xfrm>
            <a:off x="914400" y="1676520"/>
            <a:ext cx="70866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group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righ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ach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010101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0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0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01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2    5    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011 is 253 in base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Binary to Oc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D8D8-B2D3-4CF5-888E-3D0C19F4851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9480" y="2209680"/>
            <a:ext cx="71629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group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righ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each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010101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010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1011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A      B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011 is AB in base 1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Binary to Hexa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B1A1-D92F-445C-A879-BB8F553DAE6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33520" y="4267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Go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among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ateg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sit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 in other bases to bas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numbers to numbers in other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elationshi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bases 2, 8, and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importance to computing of bases that ar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wers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4FB0-09BD-4AB8-A30D-6699CCA5B74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Oc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5720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91440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914400" y="213516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990720" y="1600200"/>
            <a:ext cx="731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y som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class.vaniercollege.qc.ca/web/mathematics/real/Calculators/BaseConv_calc_1.h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ac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EF2A-5135-4A5A-B454-7ADE30B0836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990720" y="1233360"/>
            <a:ext cx="71625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2F14-87E0-44E0-A40C-15E7E9B1D79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80880" y="3124080"/>
            <a:ext cx="792504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While (the quotient is not zer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6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  <a:ea typeface="ＭＳ Ｐゴシック"/>
              </a:rPr>
              <a:t>Divide the decimal number by the new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6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  <a:ea typeface="ＭＳ Ｐゴシック"/>
              </a:rPr>
              <a:t>Make the remainder the next digit to the left in the ans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6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  <a:ea typeface="ＭＳ Ｐゴシック"/>
              </a:rPr>
              <a:t>Replace the original decimal number with the quo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09480" y="1676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 for converting number in base 10 to other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Other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B910-F76F-44EF-AA59-BFA593B60DC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Oc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91440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14400" y="213516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990720" y="1600200"/>
            <a:ext cx="7315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is 1988 (base 10) in base 8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818A-0D65-4E52-90A5-08DEBCE20BF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Oct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5720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914400" y="1523880"/>
            <a:ext cx="7391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213516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066680" y="1752480"/>
            <a:ext cx="7239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3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 19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8  248        8  31          8 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6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7            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is :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 7 0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209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685800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35053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5029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"/>
          <p:cNvSpPr/>
          <p:nvPr/>
        </p:nvSpPr>
        <p:spPr>
          <a:xfrm>
            <a:off x="6553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EA84-98D2-4977-997E-3388A762CA1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914400" y="259092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3567 (base 10) in base 16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y it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Hexa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5C18-0FE5-4C6D-B946-4A62D050A3A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0720" y="2057400"/>
            <a:ext cx="678168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13                  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 3567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 222           16  1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14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 flipV="1">
            <a:off x="2286000" y="2437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228600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886200" y="2057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 flipH="1">
            <a:off x="42670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42670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 flipV="1">
            <a:off x="6248520" y="243792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62485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350532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E 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7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ng Decimal to Hexadecim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46AB-67BD-4442-8D54-FDFB78015F8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609480" y="19051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 have storage units calle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inary dig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838080" y="3124080"/>
            <a:ext cx="71629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Voltage =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oltage = 1           all bits have 0 or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Numbers and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09480" y="510552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the other way around, but we don’t need to worry about t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8F2E-DFDE-4F4A-A66D-6D4C1A2C1C5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609480" y="190512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y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bits in 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or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or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eng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omputer, which is usually a multiple of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-bit machi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4-bit machines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and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C607-AC89-4251-9A43-D1AC62C6FBC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698400" y="1447920"/>
            <a:ext cx="7747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1A0D-7087-4EBD-B9D0-C4E74579E14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9480" y="2057400"/>
            <a:ext cx="77724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tural 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and any number obtained by repeatedly adding one to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 100, 0, 45645, 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85800" y="56386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480" y="4481640"/>
            <a:ext cx="7772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egative 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lue less than 0, with a – 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-24,  -1, -45645, -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hic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1992-20D6-4D77-9705-82393D172D8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53352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Constantia"/>
              </a:rPr>
              <a:t>The FISA Cou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Constantia"/>
              </a:rPr>
              <a:t>What does the United States Foreign Intelligence Surveillance Court do?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Constantia"/>
              </a:rPr>
              <a:t>When did most people first hear of the FISA Court?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Constantia"/>
              </a:rPr>
              <a:t>What checks and balances are there between the FISA Court and other government entities?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Constantia"/>
              </a:rPr>
              <a:t>What is the stated intent of the FISA Court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8E5-5DF1-421E-9941-DEC1B364576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334120" y="2438280"/>
            <a:ext cx="27432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you tell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son s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xt to you th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gs about me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rcRect l="3334" t="2261" r="3295" b="0"/>
          <a:stretch/>
        </p:blipFill>
        <p:spPr>
          <a:xfrm>
            <a:off x="654120" y="1436760"/>
            <a:ext cx="33987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7A6A-2F23-4271-BB3B-D50CEC07592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you know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752480" y="2209680"/>
            <a:ext cx="46483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160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1447920" y="2685960"/>
            <a:ext cx="62481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concept makes positional not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three sets can pre-school children identify?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words represent the third s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does an abacus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does bi-quinary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8732-9279-45DF-9B41-6E320B5DA93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09480" y="2133720"/>
            <a:ext cx="7772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nte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ural number, a negative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 249, 0, - 45645, - 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09480" y="3962520"/>
            <a:ext cx="7772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ational 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ger or the quotient of two integ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-249,  -1, 0, 3/7, -2/5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083D-5B22-4C4C-B5BE-F63603344A9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33520" y="121932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09480" y="2057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many ones are there in 642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447920" y="2819520"/>
            <a:ext cx="609588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 + 40 + 2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 + 32 + 2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36 + 64 + 2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B195-393A-4F95-8B9A-73BCBC09481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09480" y="190512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a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2  is 600 + 40 + 2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number determines the number of different digit symbols (numerals) and the values of digit pos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EDFF-36DA-48C7-8E2C-CCD7E2A32AA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480" y="1905120"/>
            <a:ext cx="8153640" cy="271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ng with our exampl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2 in base 10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10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6 x 100   = 6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4 x 10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 4 x 10    = 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2 x 10º  =    2 x 1     = 2      = 642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600200" y="411444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57200" y="5257800"/>
            <a:ext cx="2514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number is 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1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 flipH="1" flipV="1">
            <a:off x="2819520" y="40384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657600" y="4648320"/>
            <a:ext cx="297180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wer indic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sition o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0F8-BF56-4B33-84BA-5C2B5623183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990720" y="2819520"/>
            <a:ext cx="655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...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formu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85800" y="5562720"/>
            <a:ext cx="5334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2 is   6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 4 *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 2 *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5181480" y="1295280"/>
            <a:ext cx="228600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 is the bas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the nu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380880" y="3962520"/>
            <a:ext cx="3048120" cy="1295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is the number o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s in the nu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5562720" y="3962520"/>
            <a:ext cx="327636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 is the digit in th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it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e nu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15238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H="1" flipV="1">
            <a:off x="5562720" y="3276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3885840" y="205740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2"/>
          <p:cNvSpPr/>
          <p:nvPr/>
        </p:nvSpPr>
        <p:spPr>
          <a:xfrm>
            <a:off x="457200" y="6400800"/>
            <a:ext cx="45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D4A3-3489-4319-84BB-1E505FF9BB4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685800" y="2133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609480" y="1905120"/>
            <a:ext cx="77724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f 642 has the base of 13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2 in base 13 is equivalent to 106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base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990720" y="2666880"/>
            <a:ext cx="67053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6 x 13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6 x 169   = 10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4 x 13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  4 x 13    = 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2 x 13º  =    2 x 1     =  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1068 in base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al No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47:45Z</dcterms:created>
  <dc:creator>theresad</dc:creator>
  <dc:description/>
  <dc:language>en-US</dc:language>
  <cp:lastModifiedBy>Taylor Ferracane</cp:lastModifiedBy>
  <dcterms:modified xsi:type="dcterms:W3CDTF">2014-11-25T14:07:59Z</dcterms:modified>
  <cp:revision>61</cp:revision>
  <dc:subject/>
  <dc:title>PowerPoint Presentation</dc:title>
</cp:coreProperties>
</file>